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F3D-9CE4-48CF-9BD5-5EF8705D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004-B39F-4F60-A7EE-01A7424C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E32-E23B-4254-825D-1A0A3D65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74C-7A6F-4AF2-B004-8E7C94D7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BD7-17EE-4EB8-8A8E-D40E53A7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BB1-9313-436B-ADC2-EC9A6320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793-8C44-46C3-8BD9-9F428EC4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4AE-BC58-40CC-BD55-06D569C6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ACE-73C7-4A20-8869-057FE6A7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3E4-DA15-4190-AC14-A4AB215A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0EB-0108-4685-AF54-222FB7F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09F-DC4B-4308-9560-F43AB2D6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CE00-31EB-4DBF-BA53-98F4357643DD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38400" y="1946160"/>
            <a:ext cx="7572240" cy="90648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요청 검토 </a:t>
            </a:r>
            <a:endParaRPr b="1" lang="en-US" sz="2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733920" y="5302080"/>
            <a:ext cx="24382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㈜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733920" y="4437720"/>
            <a:ext cx="2444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.  6.  13.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5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0"/>
          <p:cNvSpPr/>
          <p:nvPr/>
        </p:nvSpPr>
        <p:spPr>
          <a:xfrm>
            <a:off x="344520" y="773280"/>
            <a:ext cx="943272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목적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력사 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사업과 관련하여 향후 추진 방향을 설정키 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결과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사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신규 차종개발 비대상 업체임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 STA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S1000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수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QS, VD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대상 업체로 품질 정보전달체계 전산화를 구축하더라도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형 기계식 연료분사장치가 적용되는 디젤엔진으로 배기 미규제 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URO1/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 지역인 동남아 및 아프리카 지역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출차종인 관계로 필드 불량 피드백이 완전치 않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료 및 고객 관리부실에 의한 불량이 많으므로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용 엔진공장의 엔진 조립 시 인젝션펌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산화 미적용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정보전달체계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 인젝션 펌프는 당사 조립 투입 기준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원 바코드 제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레이져 마킹 실시 및 자체 관리 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론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투자 대비 효과가 미미할 것으로 판단되므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대상 제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불가 시 영업이익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 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와 당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도에도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규모 영업적자가 예상되는 등 경영현황 악화에 의한 투자 여력 부족으로 한시적 적용 유예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" name="Rectangle 41"/>
          <p:cNvSpPr/>
          <p:nvPr/>
        </p:nvSpPr>
        <p:spPr>
          <a:xfrm>
            <a:off x="123840" y="114480"/>
            <a:ext cx="6532560" cy="482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▣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검토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Line 44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9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7:50:38Z</dcterms:created>
  <dc:creator>HMC</dc:creator>
  <dc:description/>
  <dc:language>en-US</dc:language>
  <cp:lastModifiedBy>R Rhyu</cp:lastModifiedBy>
  <dcterms:modified xsi:type="dcterms:W3CDTF">2014-06-13T07:35:21Z</dcterms:modified>
  <cp:revision>354</cp:revision>
  <dc:subject/>
  <dc:title>슬라이드 1</dc:title>
</cp:coreProperties>
</file>